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92BE0B0-4DB3-4085-9862-ED2C570AA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7E0660B-885A-47DA-B0FA-EE189F875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747E200-5641-4AE1-AD6A-70A2EE387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3924498-F3F2-4708-BF77-07FFC5965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DE4558-268D-43CC-8080-B6726BC02A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98291-D643-43B1-AD3A-5C775DD09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0C1C3-1604-413C-A4FF-94212D6BA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06318-FB1D-47F6-895D-86CAB00A3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4A041-6F09-4E02-BB39-F31A9E0B1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68126-A674-4B90-9137-F1A0712C4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38709-B7D0-4BEA-9406-87DC47EA5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24CC1D1-7930-4405-B2DA-51F166979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5DA15-0E27-41CF-892E-BE0C9302A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C7C52-8BB6-4F3E-9634-0FD336C13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EB6C3-A71B-486B-82D5-86D6AC2CD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D8572-B62E-490C-BC8C-B24E8C3AB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3641F-0A2F-4C70-A89D-AEDC36DE18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66970CC-9081-4F3D-9F14-BF72B86DF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13B81EA-5A44-45C4-B4FE-6458DA173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3EC490D-90F5-4BAD-AC67-0ECE127DA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FB2E83-79F7-48B7-B6C7-49757433F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F1527A-0D27-4D52-B99C-486189A91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6EE07F-1902-4924-A39D-F32B90DCE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E19F13D-9B77-4A9E-B877-D241A1A2E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8F71-64E7-4C20-B8CF-478E31A01E9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50E98-95D1-4CC9-9CE9-1447727620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images.magellanvacations.com/images/hotels/Acqualina-Ocean-Resort-acqualinasouthbeachbeach.jpg&amp;imgrefurl=http://www.southbeachluxuryhotels.com/AcqualinaOceanResort.shtml&amp;usg=__1NtSevf-rU_7YfP_CjkM3N0fROM=&amp;h=300&amp;w=450&amp;sz=34&amp;hl=en&amp;start=5&amp;um=1&amp;tbnid=jhYApiOjmk82XM:&amp;tbnh=85&amp;tbnw=127&amp;prev=/images%3Fq%3Dpicture%2Bof%2Ban%2Bocean%2Bresort%26um%3D1%26hl%3Den%26sa%3DG"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imagesus.holiday-rentals.co.uk/vd2/files/WVR/photos/35/339227/133297_15.jpg&amp;imgrefurl=http://www.holiday-rentals.co.uk/p133297&amp;usg=__a31Drbn9t1VqAamTpezPVCABg3w=&amp;h=240&amp;w=320&amp;sz=18&amp;hl=en&amp;start=16&amp;um=1&amp;tbnid=G5Zw_-gqy65J7M:&amp;tbnh=89&amp;tbnw=118&amp;prev=/images%3Fq%3Dpicture%2Bof%2Boceanside%2Bdining%26um%3D1%26hl%3Den%26sa%3DX"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flyingarrowresort.com/cabins/hot_tub/lg_img/hot_tub.jpg&amp;imgrefurl=http://www.flyingarrowresort.com/cabins/hot_tub/hot_tub_2.html&amp;usg=__xXKrx28cSIBuUwFLA7Ka9RSlikU=&amp;h=400&amp;w=600&amp;sz=38&amp;hl=en&amp;start=9&amp;um=1&amp;tbnid=5DqR0HZLaMlqaM:&amp;tbnh=90&amp;tbnw=135&amp;prev=/images%3Fq%3Dpicture%2Bof%2Ba%2Bresort%2Bhot%2Btub%26um%3D1%26hl%3Den%26sa%3DG"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dukabayresort-tours.com/images/Scuba_Diving_Corals.jpg&amp;imgrefurl=http://dukabayresort-tours.com/&amp;usg=__WtPqI-wpYogsri2ryc8nCYxMUnI=&amp;h=600&amp;w=800&amp;sz=183&amp;hl=en&amp;start=11&amp;um=1&amp;tbnid=mvcyOWF-FXDdwM:&amp;tbnh=107&amp;tbnw=143&amp;prev=/images%3Fq%3Dpicture%2Bof%2Ba%2Bscuba%2Bdiving%26um%3D1%26hl%3Den%26sa%3DG" TargetMode="External"/><Relationship Id="rId2" Type="http://schemas.openxmlformats.org/officeDocument/2006/relationships/image" Target="../media/image5.jpeg"/><Relationship Id="rId3" Type="http://schemas.openxmlformats.org/officeDocument/2006/relationships/hyperlink" Target="http://images.google.com/imgres?imgurl=http://www.destination360.com/north-america/us/hawaii/images/maui/maui-snorkeling.jpg&amp;imgrefurl=http://www.destination360.com/north-america/us/hawaii/maui/maui-snorkeling.php&amp;usg=__UOnB8KWHZtM9_8rAVs1-lXTJ--4=&amp;h=332&amp;w=415&amp;sz=43&amp;hl=en&amp;start=16&amp;um=1&amp;tbnid=TEyPX7D_n8LtLM:&amp;tbnh=100&amp;tbnw=125&amp;prev=/images%3Fq%3Dpicture%2Bof%2Bsnorkeling%26um%3D1%26hl%3Den%26sa%3DG" TargetMode="External"/><Relationship Id="rId4" Type="http://schemas.openxmlformats.org/officeDocument/2006/relationships/image" Target="../media/image6.jpeg"/><Relationship Id="rId5" Type="http://schemas.openxmlformats.org/officeDocument/2006/relationships/hyperlink" Target="http://images.google.com/imgres?imgurl=http://www.chotardlandingresort.net/images/boating/Boating/Boating.JPG&amp;imgrefurl=http://www.chotardlandingresort.net/boating.html&amp;usg=__YArtu5vkQu4bmjJsrkX6CBi7cks=&amp;h=1728&amp;w=2304&amp;sz=660&amp;hl=en&amp;start=10&amp;um=1&amp;tbnid=Zpdlz0r91XGd1M:&amp;tbnh=112&amp;tbnw=150&amp;prev=/images%3Fq%3Dpicture%2Bof%2Bboating%26um%3D1%26hl%3Den%26sa%3DG" TargetMode="External"/><Relationship Id="rId6" Type="http://schemas.openxmlformats.org/officeDocument/2006/relationships/image" Target="../media/image7.jpeg"/><Relationship Id="rId7" Type="http://schemas.openxmlformats.org/officeDocument/2006/relationships/hyperlink" Target="http://images.google.com/imgres?imgurl=http://www.interstate-transport.com/Deep%2520Sea%2520Fishing.jpg&amp;imgrefurl=http://www.interstate-transport.com/Location_Pictures.htm&amp;usg=__rmp-8AlsUq3HczgWw-THZEQ3Q6Y=&amp;h=298&amp;w=450&amp;sz=47&amp;hl=en&amp;start=4&amp;um=1&amp;tbnid=sgoFFG957RE0dM:&amp;tbnh=84&amp;tbnw=127&amp;prev=/images%3Fq%3Dpicture%2Bof%2Bdeep%2Bsea%2Bfishing%26um%3D1%26hl%3Den%26sa%3DG" TargetMode="External"/><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The New              Paradise Resort</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Place for your next vac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Water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aters at the Paradise Resort are unlike any other. Sitting beside the ocean, the Paradise Resort has the best blue waters and view from the Pool to the Ocea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04" name="" descr=""/>
          <p:cNvPicPr/>
          <p:nvPr/>
        </p:nvPicPr>
        <p:blipFill>
          <a:blip r:embed="rId1"/>
          <a:stretch/>
        </p:blipFill>
        <p:spPr>
          <a:xfrm>
            <a:off x="838080" y="3733920"/>
            <a:ext cx="3733920" cy="2743200"/>
          </a:xfrm>
          <a:prstGeom prst="rect">
            <a:avLst/>
          </a:prstGeom>
          <a:ln w="0">
            <a:noFill/>
          </a:ln>
        </p:spPr>
      </p:pic>
      <p:pic>
        <p:nvPicPr>
          <p:cNvPr id="105" name="" descr="">
            <a:hlinkClick r:id="rId2"/>
          </p:cNvPr>
          <p:cNvPicPr/>
          <p:nvPr/>
        </p:nvPicPr>
        <p:blipFill>
          <a:blip r:embed="rId3"/>
          <a:stretch/>
        </p:blipFill>
        <p:spPr>
          <a:xfrm>
            <a:off x="4648320" y="3733920"/>
            <a:ext cx="380988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Restaurants and Bars</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om the Ocean Blue Café to the Paradise Resort Pool Bar, you can find anything you want to eat or drink, morning, noon, and nigh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offer Oceanside dining.</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08" name="" descr="">
            <a:hlinkClick r:id="rId1"/>
          </p:cNvPr>
          <p:cNvPicPr/>
          <p:nvPr/>
        </p:nvPicPr>
        <p:blipFill>
          <a:blip r:embed="rId2"/>
          <a:stretch/>
        </p:blipFill>
        <p:spPr>
          <a:xfrm>
            <a:off x="762120" y="3809880"/>
            <a:ext cx="304776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Pool</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r pool is top of the line. It goes around the Palm Tree island in the middle. The clear blue water is inviting so come on and have a swim.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also have an indoor hot tub on the opposite side.</a:t>
            </a:r>
            <a:endParaRPr b="0" lang="en-US" sz="3200" spc="-1" strike="noStrike">
              <a:solidFill>
                <a:srgbClr val="ffffff"/>
              </a:solidFill>
              <a:latin typeface="Garamond"/>
            </a:endParaRPr>
          </a:p>
        </p:txBody>
      </p:sp>
      <p:pic>
        <p:nvPicPr>
          <p:cNvPr id="111" name="" descr=""/>
          <p:cNvPicPr/>
          <p:nvPr/>
        </p:nvPicPr>
        <p:blipFill>
          <a:blip r:embed="rId1"/>
          <a:stretch/>
        </p:blipFill>
        <p:spPr>
          <a:xfrm>
            <a:off x="838080" y="4191120"/>
            <a:ext cx="3657600" cy="2286000"/>
          </a:xfrm>
          <a:prstGeom prst="rect">
            <a:avLst/>
          </a:prstGeom>
          <a:ln w="0">
            <a:noFill/>
          </a:ln>
        </p:spPr>
      </p:pic>
      <p:pic>
        <p:nvPicPr>
          <p:cNvPr id="112" name="" descr="">
            <a:hlinkClick r:id="rId2"/>
          </p:cNvPr>
          <p:cNvPicPr/>
          <p:nvPr/>
        </p:nvPicPr>
        <p:blipFill>
          <a:blip r:embed="rId3"/>
          <a:stretch/>
        </p:blipFill>
        <p:spPr>
          <a:xfrm>
            <a:off x="4572000" y="4191120"/>
            <a:ext cx="358128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ctiviti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are tons of fun to be had at the Paradise Resort. We have expanded the activities in the Adventure Packages. We now offer scuba diving, snorkeling, boating, and deep sea fishing tours.</a:t>
            </a:r>
            <a:endParaRPr b="0" lang="en-US" sz="3200" spc="-1" strike="noStrike">
              <a:solidFill>
                <a:srgbClr val="ffffff"/>
              </a:solidFill>
              <a:latin typeface="Garamond"/>
            </a:endParaRPr>
          </a:p>
        </p:txBody>
      </p:sp>
      <p:pic>
        <p:nvPicPr>
          <p:cNvPr id="115" name="" descr="">
            <a:hlinkClick r:id="rId1"/>
          </p:cNvPr>
          <p:cNvPicPr/>
          <p:nvPr/>
        </p:nvPicPr>
        <p:blipFill>
          <a:blip r:embed="rId2"/>
          <a:stretch/>
        </p:blipFill>
        <p:spPr>
          <a:xfrm>
            <a:off x="685800" y="4191120"/>
            <a:ext cx="1905120" cy="2438280"/>
          </a:xfrm>
          <a:prstGeom prst="rect">
            <a:avLst/>
          </a:prstGeom>
          <a:ln w="0">
            <a:noFill/>
          </a:ln>
        </p:spPr>
      </p:pic>
      <p:pic>
        <p:nvPicPr>
          <p:cNvPr id="116" name="" descr="">
            <a:hlinkClick r:id="rId3"/>
          </p:cNvPr>
          <p:cNvPicPr/>
          <p:nvPr/>
        </p:nvPicPr>
        <p:blipFill>
          <a:blip r:embed="rId4"/>
          <a:stretch/>
        </p:blipFill>
        <p:spPr>
          <a:xfrm>
            <a:off x="2590920" y="4191120"/>
            <a:ext cx="1904760" cy="2438280"/>
          </a:xfrm>
          <a:prstGeom prst="rect">
            <a:avLst/>
          </a:prstGeom>
          <a:ln w="0">
            <a:noFill/>
          </a:ln>
        </p:spPr>
      </p:pic>
      <p:pic>
        <p:nvPicPr>
          <p:cNvPr id="117" name="" descr="">
            <a:hlinkClick r:id="rId5"/>
          </p:cNvPr>
          <p:cNvPicPr/>
          <p:nvPr/>
        </p:nvPicPr>
        <p:blipFill>
          <a:blip r:embed="rId6"/>
          <a:stretch/>
        </p:blipFill>
        <p:spPr>
          <a:xfrm>
            <a:off x="4495680" y="4191120"/>
            <a:ext cx="1905120" cy="2438280"/>
          </a:xfrm>
          <a:prstGeom prst="rect">
            <a:avLst/>
          </a:prstGeom>
          <a:ln w="0">
            <a:noFill/>
          </a:ln>
        </p:spPr>
      </p:pic>
      <p:pic>
        <p:nvPicPr>
          <p:cNvPr id="118" name="" descr="">
            <a:hlinkClick r:id="rId7"/>
          </p:cNvPr>
          <p:cNvPicPr/>
          <p:nvPr/>
        </p:nvPicPr>
        <p:blipFill>
          <a:blip r:embed="rId8"/>
          <a:stretch/>
        </p:blipFill>
        <p:spPr>
          <a:xfrm>
            <a:off x="6400800" y="4191120"/>
            <a:ext cx="1981080" cy="243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Golf Course</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aradise Resort Golf Course is open to who ever wants to play. We offer 18 holes of golf to play. We have golf carts, golf tees, and golf balls.</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We have everything that you need, just bring your clubs. (Anything rented must be paid separately)</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21" name="" descr=""/>
          <p:cNvPicPr/>
          <p:nvPr/>
        </p:nvPicPr>
        <p:blipFill>
          <a:blip r:embed="rId1"/>
          <a:stretch/>
        </p:blipFill>
        <p:spPr>
          <a:xfrm>
            <a:off x="838080" y="4800600"/>
            <a:ext cx="45720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bout Paradise Resor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adise Resort has been the top of the line resort ever since it opened 10 years ago. Since, thanks to all of the people who have visited through out the years, we are still #1. So because of that we have given the place an extreme makeover, a new pool, restaurants and bars and new adventure packages. This is the new Paradise Reso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servation Information</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r new adventure package, just to say thanks to everybody, is at a great deal of $499 per famil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would like to come to the new Paradise Resort, please see me, Jason Britton, or call      1-800-555-RS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13:55:39Z</dcterms:created>
  <dc:creator>jtbritton</dc:creator>
  <dc:description/>
  <dc:language>en-US</dc:language>
  <cp:lastModifiedBy>rjohnson</cp:lastModifiedBy>
  <dcterms:modified xsi:type="dcterms:W3CDTF">2009-03-02T15:13:56Z</dcterms:modified>
  <cp:revision>2</cp:revision>
  <dc:subject/>
  <dc:title>Paradise Resort</dc:title>
</cp:coreProperties>
</file>